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A53-443B-489D-A24B-B4C82FD8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BBD-2D47-4819-83B7-BDAF14C9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F4F-4BED-4568-AB24-90F62AD6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0A9-B06F-49CD-BF81-C861B9C4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6A9-FF45-49F0-82A8-75EE810E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5F4-A851-4079-B801-5FDA848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8CF-0769-439B-8B17-6AD04B82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5BE-6D22-4B0F-B12F-49845076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AC7-751C-4F88-B718-82CDCD0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862-80D2-45B3-84EA-8B3793B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CFB-B8D6-4ED6-982B-F39CB3C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8B9-772E-42B3-9EC9-C8E16E75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E4DD-7CB7-4B50-ACB5-B8F02E41B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Fra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71629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fraction of the following shape is shade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19320"/>
            <a:ext cx="16002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(a)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120" y="1905120"/>
            <a:ext cx="1828800" cy="1371600"/>
            <a:chOff x="762120" y="1905120"/>
            <a:chExt cx="1828800" cy="1371600"/>
          </a:xfrm>
        </p:grpSpPr>
        <p:grpSp>
          <p:nvGrpSpPr>
            <p:cNvPr id="45" name=""/>
            <p:cNvGrpSpPr/>
            <p:nvPr/>
          </p:nvGrpSpPr>
          <p:grpSpPr>
            <a:xfrm>
              <a:off x="762120" y="1905120"/>
              <a:ext cx="1828800" cy="457200"/>
              <a:chOff x="762120" y="1905120"/>
              <a:chExt cx="1828800" cy="457200"/>
            </a:xfrm>
          </p:grpSpPr>
          <p:sp>
            <p:nvSpPr>
              <p:cNvPr id="46" name=""/>
              <p:cNvSpPr/>
              <p:nvPr/>
            </p:nvSpPr>
            <p:spPr>
              <a:xfrm>
                <a:off x="762120" y="1905120"/>
                <a:ext cx="457200" cy="4572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219320" y="1905120"/>
                <a:ext cx="457200" cy="4572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76520" y="1905120"/>
                <a:ext cx="457200" cy="4572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905120"/>
                <a:ext cx="457200" cy="4572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62120" y="2362320"/>
              <a:ext cx="1828800" cy="457200"/>
              <a:chOff x="762120" y="2362320"/>
              <a:chExt cx="1828800" cy="457200"/>
            </a:xfrm>
          </p:grpSpPr>
          <p:sp>
            <p:nvSpPr>
              <p:cNvPr id="51" name=""/>
              <p:cNvSpPr/>
              <p:nvPr/>
            </p:nvSpPr>
            <p:spPr>
              <a:xfrm>
                <a:off x="762120" y="23623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9320" y="23623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676520" y="23623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133720" y="23623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762120" y="2819520"/>
              <a:ext cx="1828800" cy="457200"/>
              <a:chOff x="762120" y="2819520"/>
              <a:chExt cx="1828800" cy="457200"/>
            </a:xfrm>
          </p:grpSpPr>
          <p:sp>
            <p:nvSpPr>
              <p:cNvPr id="56" name=""/>
              <p:cNvSpPr/>
              <p:nvPr/>
            </p:nvSpPr>
            <p:spPr>
              <a:xfrm>
                <a:off x="762120" y="28195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9320" y="28195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6520" y="28195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33720" y="28195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1981080" y="1219320"/>
            <a:ext cx="609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733920"/>
            <a:ext cx="1371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914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17524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(a)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321640" y="4579200"/>
            <a:ext cx="2043360" cy="1833840"/>
            <a:chOff x="2321640" y="4579200"/>
            <a:chExt cx="2043360" cy="1833840"/>
          </a:xfrm>
        </p:grpSpPr>
        <p:sp>
          <p:nvSpPr>
            <p:cNvPr id="65" name=""/>
            <p:cNvSpPr/>
            <p:nvPr/>
          </p:nvSpPr>
          <p:spPr>
            <a:xfrm rot="76800">
              <a:off x="2895120" y="5518440"/>
              <a:ext cx="914400" cy="8820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321640" y="4579200"/>
              <a:ext cx="2043360" cy="1833840"/>
              <a:chOff x="2321640" y="4579200"/>
              <a:chExt cx="2043360" cy="1833840"/>
            </a:xfrm>
          </p:grpSpPr>
          <p:sp>
            <p:nvSpPr>
              <p:cNvPr id="67" name=""/>
              <p:cNvSpPr/>
              <p:nvPr/>
            </p:nvSpPr>
            <p:spPr>
              <a:xfrm rot="18542400">
                <a:off x="3276720" y="5325120"/>
                <a:ext cx="882360" cy="9144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5300000">
                <a:off x="3368520" y="4972320"/>
                <a:ext cx="881640" cy="91368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2200400">
                <a:off x="3078000" y="4723920"/>
                <a:ext cx="913680" cy="8816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9539400">
                <a:off x="2711880" y="4723560"/>
                <a:ext cx="914400" cy="88164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16000">
                <a:off x="2454480" y="4972320"/>
                <a:ext cx="881640" cy="9144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244800">
                <a:off x="2545200" y="5325120"/>
                <a:ext cx="882360" cy="91368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838080" y="5334120"/>
            <a:ext cx="838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95880"/>
            <a:ext cx="12952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6019920"/>
            <a:ext cx="60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914400"/>
            <a:ext cx="167616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(a)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191120" y="1676520"/>
            <a:ext cx="3962160" cy="1218600"/>
            <a:chOff x="4191120" y="1676520"/>
            <a:chExt cx="3962160" cy="1218600"/>
          </a:xfrm>
        </p:grpSpPr>
        <p:sp>
          <p:nvSpPr>
            <p:cNvPr id="78" name=""/>
            <p:cNvSpPr/>
            <p:nvPr/>
          </p:nvSpPr>
          <p:spPr>
            <a:xfrm>
              <a:off x="5105520" y="1676520"/>
              <a:ext cx="1218960" cy="609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120"/>
                <a:gd name="textAreaBottom" fmla="*/ 47520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6019920" y="1676520"/>
              <a:ext cx="1218960" cy="609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120"/>
                <a:gd name="textAreaBottom" fmla="*/ 47520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1676520"/>
              <a:ext cx="1218960" cy="609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120"/>
                <a:gd name="textAreaBottom" fmla="*/ 47520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920" y="2285640"/>
              <a:ext cx="1218960" cy="60948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5105520" y="2285280"/>
              <a:ext cx="1218960" cy="60948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6934320" y="2285280"/>
              <a:ext cx="1218960" cy="60948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4191120" y="1676520"/>
              <a:ext cx="1218960" cy="609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120"/>
                <a:gd name="textAreaBottom" fmla="*/ 47520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91120" y="2285640"/>
              <a:ext cx="1218960" cy="60948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934320" y="91440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8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276720"/>
            <a:ext cx="16765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312408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8=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343400"/>
            <a:ext cx="27432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Green or oran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1055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8 = 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16:55:19Z</dcterms:created>
  <dc:creator>LT Scotland</dc:creator>
  <dc:description/>
  <dc:language>en-US</dc:language>
  <cp:lastModifiedBy>Computing Department</cp:lastModifiedBy>
  <dcterms:modified xsi:type="dcterms:W3CDTF">2004-09-13T07:18:51Z</dcterms:modified>
  <cp:revision>3</cp:revision>
  <dc:subject/>
  <dc:title>Access 3 Mathematics: Unit 1 Outcome 1 - What Fraction ?</dc:title>
</cp:coreProperties>
</file>